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5DA-1BE3-4087-9934-433661E7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360-9FB7-446A-8FE7-D811B5E9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2E3-C1A2-40DC-AB16-B3FACD9B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82E-4064-47C2-9515-9BAD3ABB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AA6-BC98-490F-9935-B19B8708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0F3-4AB2-45F4-AA0C-52F0A54A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8ED-7110-4CB7-BA87-5DBE2DA9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DC59-FE69-4639-A009-CE24C549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6BD6-D9D1-46B5-9D46-F26F5416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E0A-CB6D-4CA4-8DE8-6126170C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B57F-40B0-4777-89EB-B2AB85B8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AA6D-6242-4551-9159-356957BE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C120-DCE7-466C-8E68-786AB905C2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Епилептички напади и епилепс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Антидепресиви нове генера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4400" spc="-1" strike="noStrike">
                <a:solidFill>
                  <a:srgbClr val="000000"/>
                </a:solidFill>
                <a:latin typeface="Calibri"/>
              </a:rPr>
              <a:t>Генерализовани напа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bsan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типич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bsan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оклонички напа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они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ни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ничко-клони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тони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7858080" y="214200"/>
            <a:ext cx="838080" cy="99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класификовани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напа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па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буд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класификова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достат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одат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7772400" y="0"/>
            <a:ext cx="1371600" cy="7621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епилепс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А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65%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ацијена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ост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одсуств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п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кључив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оптимал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о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рв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ле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Хирур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Остал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видов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33520" y="1371600"/>
            <a:ext cx="29718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24520" y="87948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Монотерап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38520" y="2708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л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781600" y="453708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ле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1905120" y="1371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3962520" y="3200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7010280" y="5029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500040" y="1371600"/>
            <a:ext cx="1500120" cy="143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Доб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контр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071800" y="1357200"/>
            <a:ext cx="1538280" cy="143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Слаб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контр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1371600" y="2819520"/>
            <a:ext cx="914400" cy="1143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9"/>
          <p:cNvSpPr/>
          <p:nvPr/>
        </p:nvSpPr>
        <p:spPr>
          <a:xfrm>
            <a:off x="4343400" y="4648320"/>
            <a:ext cx="762120" cy="1295280"/>
          </a:xfrm>
          <a:custGeom>
            <a:avLst/>
            <a:gdLst>
              <a:gd name="textAreaLeft" fmla="*/ 101880 w 762120"/>
              <a:gd name="textAreaRight" fmla="*/ 660240 w 7621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2590920" y="3200400"/>
            <a:ext cx="1409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Доб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контр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3"/>
          <p:cNvSpPr/>
          <p:nvPr/>
        </p:nvSpPr>
        <p:spPr>
          <a:xfrm>
            <a:off x="3946680" y="318600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Слаб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контр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2951640" y="3733920"/>
            <a:ext cx="689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4267080" y="3733920"/>
            <a:ext cx="7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5715000" y="5029200"/>
            <a:ext cx="1285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Доб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контр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8"/>
          <p:cNvSpPr/>
          <p:nvPr/>
        </p:nvSpPr>
        <p:spPr>
          <a:xfrm>
            <a:off x="7162920" y="5029200"/>
            <a:ext cx="140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Слаб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контр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9"/>
          <p:cNvSpPr/>
          <p:nvPr/>
        </p:nvSpPr>
        <p:spPr>
          <a:xfrm>
            <a:off x="5831280" y="5653080"/>
            <a:ext cx="2518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2643120" y="214200"/>
            <a:ext cx="607212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Arial"/>
              </a:rPr>
              <a:t>ПРОГНОЗ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Arial"/>
              </a:rPr>
              <a:t>А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000000"/>
                </a:solidFill>
                <a:latin typeface="Calibri"/>
                <a:ea typeface="Arial"/>
              </a:rPr>
              <a:t>МЕХАНИЗАМ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  <a:ea typeface="Arial"/>
              </a:rPr>
              <a:t>ДЕЈСТВ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  <a:ea typeface="Arial"/>
              </a:rPr>
              <a:t>АНТИЕПИЛЕПТИК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oup 189"/>
          <p:cNvGrpSpPr/>
          <p:nvPr/>
        </p:nvGrpSpPr>
        <p:grpSpPr>
          <a:xfrm>
            <a:off x="152280" y="1905120"/>
            <a:ext cx="8915400" cy="4647240"/>
            <a:chOff x="152280" y="1905120"/>
            <a:chExt cx="8915400" cy="4647240"/>
          </a:xfrm>
        </p:grpSpPr>
        <p:sp>
          <p:nvSpPr>
            <p:cNvPr id="129" name="Rectangle 4"/>
            <p:cNvSpPr/>
            <p:nvPr/>
          </p:nvSpPr>
          <p:spPr>
            <a:xfrm>
              <a:off x="157320" y="1943280"/>
              <a:ext cx="133344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600" spc="-1" strike="noStrike">
                  <a:solidFill>
                    <a:srgbClr val="000000"/>
                  </a:solidFill>
                  <a:latin typeface="Arial"/>
                </a:rPr>
                <a:t>A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64"/>
            <p:cNvSpPr/>
            <p:nvPr/>
          </p:nvSpPr>
          <p:spPr>
            <a:xfrm>
              <a:off x="157320" y="1977840"/>
              <a:ext cx="13665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5"/>
            <p:cNvSpPr/>
            <p:nvPr/>
          </p:nvSpPr>
          <p:spPr>
            <a:xfrm>
              <a:off x="1600200" y="1905120"/>
              <a:ext cx="8031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66"/>
            <p:cNvSpPr/>
            <p:nvPr/>
          </p:nvSpPr>
          <p:spPr>
            <a:xfrm>
              <a:off x="1523880" y="1992240"/>
              <a:ext cx="6843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2209680" y="1905120"/>
              <a:ext cx="100980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68"/>
            <p:cNvSpPr/>
            <p:nvPr/>
          </p:nvSpPr>
          <p:spPr>
            <a:xfrm>
              <a:off x="2208240" y="1992240"/>
              <a:ext cx="6714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2895480" y="1905120"/>
              <a:ext cx="10321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VP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70"/>
            <p:cNvSpPr/>
            <p:nvPr/>
          </p:nvSpPr>
          <p:spPr>
            <a:xfrm>
              <a:off x="2879640" y="1992240"/>
              <a:ext cx="6843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8"/>
            <p:cNvSpPr/>
            <p:nvPr/>
          </p:nvSpPr>
          <p:spPr>
            <a:xfrm>
              <a:off x="3581280" y="1905120"/>
              <a:ext cx="102888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CB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72"/>
            <p:cNvSpPr/>
            <p:nvPr/>
          </p:nvSpPr>
          <p:spPr>
            <a:xfrm>
              <a:off x="3564000" y="1992240"/>
              <a:ext cx="68112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4267080" y="1905120"/>
              <a:ext cx="10321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BD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74"/>
            <p:cNvSpPr/>
            <p:nvPr/>
          </p:nvSpPr>
          <p:spPr>
            <a:xfrm>
              <a:off x="4245120" y="1992240"/>
              <a:ext cx="6825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0"/>
            <p:cNvSpPr/>
            <p:nvPr/>
          </p:nvSpPr>
          <p:spPr>
            <a:xfrm>
              <a:off x="4952880" y="1905120"/>
              <a:ext cx="10699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E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6"/>
            <p:cNvSpPr/>
            <p:nvPr/>
          </p:nvSpPr>
          <p:spPr>
            <a:xfrm>
              <a:off x="4927680" y="1992240"/>
              <a:ext cx="70164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5638680" y="1905120"/>
              <a:ext cx="106380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VG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78"/>
            <p:cNvSpPr/>
            <p:nvPr/>
          </p:nvSpPr>
          <p:spPr>
            <a:xfrm>
              <a:off x="5629320" y="1992240"/>
              <a:ext cx="7002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6324480" y="1905120"/>
              <a:ext cx="10065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LT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80"/>
            <p:cNvSpPr/>
            <p:nvPr/>
          </p:nvSpPr>
          <p:spPr>
            <a:xfrm>
              <a:off x="6329520" y="1992240"/>
              <a:ext cx="6696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3"/>
            <p:cNvSpPr/>
            <p:nvPr/>
          </p:nvSpPr>
          <p:spPr>
            <a:xfrm>
              <a:off x="7010280" y="1905120"/>
              <a:ext cx="10699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G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82"/>
            <p:cNvSpPr/>
            <p:nvPr/>
          </p:nvSpPr>
          <p:spPr>
            <a:xfrm>
              <a:off x="6999120" y="1992240"/>
              <a:ext cx="7020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4"/>
            <p:cNvSpPr/>
            <p:nvPr/>
          </p:nvSpPr>
          <p:spPr>
            <a:xfrm>
              <a:off x="7696080" y="1905120"/>
              <a:ext cx="10447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G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84"/>
            <p:cNvSpPr/>
            <p:nvPr/>
          </p:nvSpPr>
          <p:spPr>
            <a:xfrm>
              <a:off x="7701120" y="1992240"/>
              <a:ext cx="69048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5"/>
            <p:cNvSpPr/>
            <p:nvPr/>
          </p:nvSpPr>
          <p:spPr>
            <a:xfrm>
              <a:off x="8381880" y="1905120"/>
              <a:ext cx="68580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86"/>
            <p:cNvSpPr/>
            <p:nvPr/>
          </p:nvSpPr>
          <p:spPr>
            <a:xfrm>
              <a:off x="8391600" y="1992240"/>
              <a:ext cx="6714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157320" y="2745720"/>
              <a:ext cx="133344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GA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recepto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88"/>
            <p:cNvSpPr/>
            <p:nvPr/>
          </p:nvSpPr>
          <p:spPr>
            <a:xfrm>
              <a:off x="157320" y="2745720"/>
              <a:ext cx="136656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7"/>
            <p:cNvSpPr/>
            <p:nvPr/>
          </p:nvSpPr>
          <p:spPr>
            <a:xfrm>
              <a:off x="1565280" y="2745720"/>
              <a:ext cx="7207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90"/>
            <p:cNvSpPr/>
            <p:nvPr/>
          </p:nvSpPr>
          <p:spPr>
            <a:xfrm>
              <a:off x="1523880" y="2745720"/>
              <a:ext cx="68436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8"/>
            <p:cNvSpPr/>
            <p:nvPr/>
          </p:nvSpPr>
          <p:spPr>
            <a:xfrm>
              <a:off x="2284560" y="2745720"/>
              <a:ext cx="5191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92"/>
            <p:cNvSpPr/>
            <p:nvPr/>
          </p:nvSpPr>
          <p:spPr>
            <a:xfrm>
              <a:off x="2208240" y="2745720"/>
              <a:ext cx="67140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9"/>
            <p:cNvSpPr/>
            <p:nvPr/>
          </p:nvSpPr>
          <p:spPr>
            <a:xfrm>
              <a:off x="2955960" y="2745720"/>
              <a:ext cx="5317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94"/>
            <p:cNvSpPr/>
            <p:nvPr/>
          </p:nvSpPr>
          <p:spPr>
            <a:xfrm>
              <a:off x="2879640" y="2745720"/>
              <a:ext cx="68436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3639960" y="2745720"/>
              <a:ext cx="52884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6"/>
            <p:cNvSpPr/>
            <p:nvPr/>
          </p:nvSpPr>
          <p:spPr>
            <a:xfrm>
              <a:off x="3564000" y="2745720"/>
              <a:ext cx="68112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1"/>
            <p:cNvSpPr/>
            <p:nvPr/>
          </p:nvSpPr>
          <p:spPr>
            <a:xfrm>
              <a:off x="4143240" y="2745720"/>
              <a:ext cx="8859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8"/>
            <p:cNvSpPr/>
            <p:nvPr/>
          </p:nvSpPr>
          <p:spPr>
            <a:xfrm>
              <a:off x="4245120" y="2745720"/>
              <a:ext cx="68256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2"/>
            <p:cNvSpPr/>
            <p:nvPr/>
          </p:nvSpPr>
          <p:spPr>
            <a:xfrm>
              <a:off x="4842000" y="2745720"/>
              <a:ext cx="8730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00"/>
            <p:cNvSpPr/>
            <p:nvPr/>
          </p:nvSpPr>
          <p:spPr>
            <a:xfrm>
              <a:off x="4927680" y="2745720"/>
              <a:ext cx="70164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3"/>
            <p:cNvSpPr/>
            <p:nvPr/>
          </p:nvSpPr>
          <p:spPr>
            <a:xfrm>
              <a:off x="5556240" y="2745720"/>
              <a:ext cx="8445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02"/>
            <p:cNvSpPr/>
            <p:nvPr/>
          </p:nvSpPr>
          <p:spPr>
            <a:xfrm>
              <a:off x="5629320" y="2745720"/>
              <a:ext cx="70020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4"/>
            <p:cNvSpPr/>
            <p:nvPr/>
          </p:nvSpPr>
          <p:spPr>
            <a:xfrm>
              <a:off x="6405480" y="2745720"/>
              <a:ext cx="5176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04"/>
            <p:cNvSpPr/>
            <p:nvPr/>
          </p:nvSpPr>
          <p:spPr>
            <a:xfrm>
              <a:off x="6329520" y="2745720"/>
              <a:ext cx="66960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7075440" y="2745720"/>
              <a:ext cx="5493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06"/>
            <p:cNvSpPr/>
            <p:nvPr/>
          </p:nvSpPr>
          <p:spPr>
            <a:xfrm>
              <a:off x="6999120" y="2745720"/>
              <a:ext cx="70200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6"/>
            <p:cNvSpPr/>
            <p:nvPr/>
          </p:nvSpPr>
          <p:spPr>
            <a:xfrm>
              <a:off x="7632720" y="2745720"/>
              <a:ext cx="8254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08"/>
            <p:cNvSpPr/>
            <p:nvPr/>
          </p:nvSpPr>
          <p:spPr>
            <a:xfrm>
              <a:off x="7701120" y="2745720"/>
              <a:ext cx="69048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7"/>
            <p:cNvSpPr/>
            <p:nvPr/>
          </p:nvSpPr>
          <p:spPr>
            <a:xfrm>
              <a:off x="8467560" y="2745720"/>
              <a:ext cx="5191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10"/>
            <p:cNvSpPr/>
            <p:nvPr/>
          </p:nvSpPr>
          <p:spPr>
            <a:xfrm>
              <a:off x="8391600" y="2745720"/>
              <a:ext cx="67140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157320" y="3757320"/>
              <a:ext cx="144288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Ekscitator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aminokise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12"/>
            <p:cNvSpPr/>
            <p:nvPr/>
          </p:nvSpPr>
          <p:spPr>
            <a:xfrm>
              <a:off x="157320" y="3757320"/>
              <a:ext cx="136656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1565280" y="3757320"/>
              <a:ext cx="72072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14"/>
            <p:cNvSpPr/>
            <p:nvPr/>
          </p:nvSpPr>
          <p:spPr>
            <a:xfrm>
              <a:off x="1523880" y="3757320"/>
              <a:ext cx="68436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0"/>
            <p:cNvSpPr/>
            <p:nvPr/>
          </p:nvSpPr>
          <p:spPr>
            <a:xfrm>
              <a:off x="2284560" y="3757320"/>
              <a:ext cx="51912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16"/>
            <p:cNvSpPr/>
            <p:nvPr/>
          </p:nvSpPr>
          <p:spPr>
            <a:xfrm>
              <a:off x="2208240" y="3757320"/>
              <a:ext cx="67140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1"/>
            <p:cNvSpPr/>
            <p:nvPr/>
          </p:nvSpPr>
          <p:spPr>
            <a:xfrm>
              <a:off x="2955960" y="3757320"/>
              <a:ext cx="53172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18"/>
            <p:cNvSpPr/>
            <p:nvPr/>
          </p:nvSpPr>
          <p:spPr>
            <a:xfrm>
              <a:off x="2879640" y="3757320"/>
              <a:ext cx="68436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2"/>
            <p:cNvSpPr/>
            <p:nvPr/>
          </p:nvSpPr>
          <p:spPr>
            <a:xfrm>
              <a:off x="3639960" y="3757320"/>
              <a:ext cx="52884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20"/>
            <p:cNvSpPr/>
            <p:nvPr/>
          </p:nvSpPr>
          <p:spPr>
            <a:xfrm>
              <a:off x="3564000" y="3757320"/>
              <a:ext cx="68112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33"/>
            <p:cNvSpPr/>
            <p:nvPr/>
          </p:nvSpPr>
          <p:spPr>
            <a:xfrm>
              <a:off x="4143240" y="3757320"/>
              <a:ext cx="88596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22"/>
            <p:cNvSpPr/>
            <p:nvPr/>
          </p:nvSpPr>
          <p:spPr>
            <a:xfrm>
              <a:off x="4245120" y="3757320"/>
              <a:ext cx="68256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34"/>
            <p:cNvSpPr/>
            <p:nvPr/>
          </p:nvSpPr>
          <p:spPr>
            <a:xfrm>
              <a:off x="4842000" y="3757320"/>
              <a:ext cx="87300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24"/>
            <p:cNvSpPr/>
            <p:nvPr/>
          </p:nvSpPr>
          <p:spPr>
            <a:xfrm>
              <a:off x="4927680" y="3757320"/>
              <a:ext cx="70164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35"/>
            <p:cNvSpPr/>
            <p:nvPr/>
          </p:nvSpPr>
          <p:spPr>
            <a:xfrm>
              <a:off x="5556240" y="3757320"/>
              <a:ext cx="84456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26"/>
            <p:cNvSpPr/>
            <p:nvPr/>
          </p:nvSpPr>
          <p:spPr>
            <a:xfrm>
              <a:off x="5629320" y="3757320"/>
              <a:ext cx="70020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36"/>
            <p:cNvSpPr/>
            <p:nvPr/>
          </p:nvSpPr>
          <p:spPr>
            <a:xfrm>
              <a:off x="6405480" y="3757320"/>
              <a:ext cx="51768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28"/>
            <p:cNvSpPr/>
            <p:nvPr/>
          </p:nvSpPr>
          <p:spPr>
            <a:xfrm>
              <a:off x="6329520" y="3757320"/>
              <a:ext cx="66960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7075440" y="3757320"/>
              <a:ext cx="54936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0"/>
            <p:cNvSpPr/>
            <p:nvPr/>
          </p:nvSpPr>
          <p:spPr>
            <a:xfrm>
              <a:off x="6999120" y="3757320"/>
              <a:ext cx="70200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8"/>
            <p:cNvSpPr/>
            <p:nvPr/>
          </p:nvSpPr>
          <p:spPr>
            <a:xfrm>
              <a:off x="7632720" y="3757320"/>
              <a:ext cx="82548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32"/>
            <p:cNvSpPr/>
            <p:nvPr/>
          </p:nvSpPr>
          <p:spPr>
            <a:xfrm>
              <a:off x="7701120" y="3757320"/>
              <a:ext cx="69048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9"/>
            <p:cNvSpPr/>
            <p:nvPr/>
          </p:nvSpPr>
          <p:spPr>
            <a:xfrm>
              <a:off x="8467560" y="3757320"/>
              <a:ext cx="51912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34"/>
            <p:cNvSpPr/>
            <p:nvPr/>
          </p:nvSpPr>
          <p:spPr>
            <a:xfrm>
              <a:off x="8391600" y="3757320"/>
              <a:ext cx="67140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0"/>
            <p:cNvSpPr/>
            <p:nvPr/>
          </p:nvSpPr>
          <p:spPr>
            <a:xfrm>
              <a:off x="157320" y="5011920"/>
              <a:ext cx="133344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sl-SI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 kan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36"/>
            <p:cNvSpPr/>
            <p:nvPr/>
          </p:nvSpPr>
          <p:spPr>
            <a:xfrm>
              <a:off x="157320" y="5011920"/>
              <a:ext cx="13665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1"/>
            <p:cNvSpPr/>
            <p:nvPr/>
          </p:nvSpPr>
          <p:spPr>
            <a:xfrm>
              <a:off x="1565280" y="4843080"/>
              <a:ext cx="7207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38"/>
            <p:cNvSpPr/>
            <p:nvPr/>
          </p:nvSpPr>
          <p:spPr>
            <a:xfrm>
              <a:off x="1523880" y="5011920"/>
              <a:ext cx="6843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42"/>
            <p:cNvSpPr/>
            <p:nvPr/>
          </p:nvSpPr>
          <p:spPr>
            <a:xfrm>
              <a:off x="2284560" y="4843080"/>
              <a:ext cx="5191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40"/>
            <p:cNvSpPr/>
            <p:nvPr/>
          </p:nvSpPr>
          <p:spPr>
            <a:xfrm>
              <a:off x="2208240" y="5011920"/>
              <a:ext cx="6714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43"/>
            <p:cNvSpPr/>
            <p:nvPr/>
          </p:nvSpPr>
          <p:spPr>
            <a:xfrm>
              <a:off x="2955960" y="4843080"/>
              <a:ext cx="5317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42"/>
            <p:cNvSpPr/>
            <p:nvPr/>
          </p:nvSpPr>
          <p:spPr>
            <a:xfrm>
              <a:off x="2879640" y="5011920"/>
              <a:ext cx="6843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44"/>
            <p:cNvSpPr/>
            <p:nvPr/>
          </p:nvSpPr>
          <p:spPr>
            <a:xfrm>
              <a:off x="3639960" y="4843080"/>
              <a:ext cx="52884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44"/>
            <p:cNvSpPr/>
            <p:nvPr/>
          </p:nvSpPr>
          <p:spPr>
            <a:xfrm>
              <a:off x="3564000" y="5011920"/>
              <a:ext cx="68112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45"/>
            <p:cNvSpPr/>
            <p:nvPr/>
          </p:nvSpPr>
          <p:spPr>
            <a:xfrm>
              <a:off x="4143240" y="4843080"/>
              <a:ext cx="8859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46"/>
            <p:cNvSpPr/>
            <p:nvPr/>
          </p:nvSpPr>
          <p:spPr>
            <a:xfrm>
              <a:off x="4245120" y="5011920"/>
              <a:ext cx="6825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6"/>
            <p:cNvSpPr/>
            <p:nvPr/>
          </p:nvSpPr>
          <p:spPr>
            <a:xfrm>
              <a:off x="4842000" y="4843080"/>
              <a:ext cx="87300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48"/>
            <p:cNvSpPr/>
            <p:nvPr/>
          </p:nvSpPr>
          <p:spPr>
            <a:xfrm>
              <a:off x="4927680" y="5011920"/>
              <a:ext cx="70164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7"/>
            <p:cNvSpPr/>
            <p:nvPr/>
          </p:nvSpPr>
          <p:spPr>
            <a:xfrm>
              <a:off x="5556240" y="4843080"/>
              <a:ext cx="8445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0"/>
            <p:cNvSpPr/>
            <p:nvPr/>
          </p:nvSpPr>
          <p:spPr>
            <a:xfrm>
              <a:off x="5629320" y="5011920"/>
              <a:ext cx="7002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8"/>
            <p:cNvSpPr/>
            <p:nvPr/>
          </p:nvSpPr>
          <p:spPr>
            <a:xfrm>
              <a:off x="6405480" y="4843080"/>
              <a:ext cx="51768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52"/>
            <p:cNvSpPr/>
            <p:nvPr/>
          </p:nvSpPr>
          <p:spPr>
            <a:xfrm>
              <a:off x="6329520" y="5011920"/>
              <a:ext cx="6696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49"/>
            <p:cNvSpPr/>
            <p:nvPr/>
          </p:nvSpPr>
          <p:spPr>
            <a:xfrm>
              <a:off x="7075440" y="4843080"/>
              <a:ext cx="5493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54"/>
            <p:cNvSpPr/>
            <p:nvPr/>
          </p:nvSpPr>
          <p:spPr>
            <a:xfrm>
              <a:off x="6999120" y="5011920"/>
              <a:ext cx="7020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50"/>
            <p:cNvSpPr/>
            <p:nvPr/>
          </p:nvSpPr>
          <p:spPr>
            <a:xfrm>
              <a:off x="7632720" y="4843080"/>
              <a:ext cx="82548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56"/>
            <p:cNvSpPr/>
            <p:nvPr/>
          </p:nvSpPr>
          <p:spPr>
            <a:xfrm>
              <a:off x="7701120" y="5011920"/>
              <a:ext cx="69048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8467560" y="4843080"/>
              <a:ext cx="5191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58"/>
            <p:cNvSpPr/>
            <p:nvPr/>
          </p:nvSpPr>
          <p:spPr>
            <a:xfrm>
              <a:off x="8391600" y="5011920"/>
              <a:ext cx="6714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2"/>
            <p:cNvSpPr/>
            <p:nvPr/>
          </p:nvSpPr>
          <p:spPr>
            <a:xfrm>
              <a:off x="157320" y="5779800"/>
              <a:ext cx="133344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1" lang="sl-SI" sz="16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 kan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60"/>
            <p:cNvSpPr/>
            <p:nvPr/>
          </p:nvSpPr>
          <p:spPr>
            <a:xfrm>
              <a:off x="157320" y="5779800"/>
              <a:ext cx="13665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53"/>
            <p:cNvSpPr/>
            <p:nvPr/>
          </p:nvSpPr>
          <p:spPr>
            <a:xfrm>
              <a:off x="1565280" y="5610600"/>
              <a:ext cx="7207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62"/>
            <p:cNvSpPr/>
            <p:nvPr/>
          </p:nvSpPr>
          <p:spPr>
            <a:xfrm>
              <a:off x="1523880" y="5779800"/>
              <a:ext cx="6843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4"/>
            <p:cNvSpPr/>
            <p:nvPr/>
          </p:nvSpPr>
          <p:spPr>
            <a:xfrm>
              <a:off x="2284560" y="5610600"/>
              <a:ext cx="5191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64"/>
            <p:cNvSpPr/>
            <p:nvPr/>
          </p:nvSpPr>
          <p:spPr>
            <a:xfrm>
              <a:off x="2208240" y="5779800"/>
              <a:ext cx="6714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5"/>
            <p:cNvSpPr/>
            <p:nvPr/>
          </p:nvSpPr>
          <p:spPr>
            <a:xfrm>
              <a:off x="2955960" y="5610600"/>
              <a:ext cx="5317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66"/>
            <p:cNvSpPr/>
            <p:nvPr/>
          </p:nvSpPr>
          <p:spPr>
            <a:xfrm>
              <a:off x="2879640" y="5779800"/>
              <a:ext cx="6843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6"/>
            <p:cNvSpPr/>
            <p:nvPr/>
          </p:nvSpPr>
          <p:spPr>
            <a:xfrm>
              <a:off x="3639960" y="5610600"/>
              <a:ext cx="52884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68"/>
            <p:cNvSpPr/>
            <p:nvPr/>
          </p:nvSpPr>
          <p:spPr>
            <a:xfrm>
              <a:off x="3564000" y="5779800"/>
              <a:ext cx="68112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7"/>
            <p:cNvSpPr/>
            <p:nvPr/>
          </p:nvSpPr>
          <p:spPr>
            <a:xfrm>
              <a:off x="4143240" y="5610600"/>
              <a:ext cx="8859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70"/>
            <p:cNvSpPr/>
            <p:nvPr/>
          </p:nvSpPr>
          <p:spPr>
            <a:xfrm>
              <a:off x="4245120" y="5779800"/>
              <a:ext cx="6825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8"/>
            <p:cNvSpPr/>
            <p:nvPr/>
          </p:nvSpPr>
          <p:spPr>
            <a:xfrm>
              <a:off x="4842000" y="5610600"/>
              <a:ext cx="87300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72"/>
            <p:cNvSpPr/>
            <p:nvPr/>
          </p:nvSpPr>
          <p:spPr>
            <a:xfrm>
              <a:off x="4927680" y="5779800"/>
              <a:ext cx="70164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59"/>
            <p:cNvSpPr/>
            <p:nvPr/>
          </p:nvSpPr>
          <p:spPr>
            <a:xfrm>
              <a:off x="5556240" y="5610600"/>
              <a:ext cx="8445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74"/>
            <p:cNvSpPr/>
            <p:nvPr/>
          </p:nvSpPr>
          <p:spPr>
            <a:xfrm>
              <a:off x="5629320" y="5779800"/>
              <a:ext cx="7002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0"/>
            <p:cNvSpPr/>
            <p:nvPr/>
          </p:nvSpPr>
          <p:spPr>
            <a:xfrm>
              <a:off x="6405480" y="5610600"/>
              <a:ext cx="51768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76"/>
            <p:cNvSpPr/>
            <p:nvPr/>
          </p:nvSpPr>
          <p:spPr>
            <a:xfrm>
              <a:off x="6329520" y="5779800"/>
              <a:ext cx="6696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61"/>
            <p:cNvSpPr/>
            <p:nvPr/>
          </p:nvSpPr>
          <p:spPr>
            <a:xfrm>
              <a:off x="7075440" y="5610600"/>
              <a:ext cx="5493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78"/>
            <p:cNvSpPr/>
            <p:nvPr/>
          </p:nvSpPr>
          <p:spPr>
            <a:xfrm>
              <a:off x="6999120" y="5779800"/>
              <a:ext cx="7020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62"/>
            <p:cNvSpPr/>
            <p:nvPr/>
          </p:nvSpPr>
          <p:spPr>
            <a:xfrm>
              <a:off x="7632720" y="5610600"/>
              <a:ext cx="82548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80"/>
            <p:cNvSpPr/>
            <p:nvPr/>
          </p:nvSpPr>
          <p:spPr>
            <a:xfrm>
              <a:off x="7701120" y="5779800"/>
              <a:ext cx="69048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63"/>
            <p:cNvSpPr/>
            <p:nvPr/>
          </p:nvSpPr>
          <p:spPr>
            <a:xfrm>
              <a:off x="8467560" y="5610600"/>
              <a:ext cx="5191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82"/>
            <p:cNvSpPr/>
            <p:nvPr/>
          </p:nvSpPr>
          <p:spPr>
            <a:xfrm>
              <a:off x="8391600" y="5779800"/>
              <a:ext cx="6714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85"/>
            <p:cNvSpPr/>
            <p:nvPr/>
          </p:nvSpPr>
          <p:spPr>
            <a:xfrm>
              <a:off x="152280" y="1972440"/>
              <a:ext cx="8915400" cy="4579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000000"/>
                </a:solidFill>
                <a:latin typeface="Calibri"/>
                <a:ea typeface="Arial"/>
              </a:rPr>
              <a:t>СПЕКТАР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  <a:ea typeface="Arial"/>
              </a:rPr>
              <a:t>ЕФИКАСНОСТ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  <a:ea typeface="Arial"/>
              </a:rPr>
              <a:t>АЕЛ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90600" y="1604880"/>
            <a:ext cx="15256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напади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синдро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1"/>
          <p:cNvSpPr/>
          <p:nvPr/>
        </p:nvSpPr>
        <p:spPr>
          <a:xfrm>
            <a:off x="309600" y="1604880"/>
            <a:ext cx="1687320" cy="82224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1981080" y="1604880"/>
            <a:ext cx="17319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напади осим абсан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3"/>
          <p:cNvSpPr/>
          <p:nvPr/>
        </p:nvSpPr>
        <p:spPr>
          <a:xfrm>
            <a:off x="1996920" y="1604880"/>
            <a:ext cx="1665360" cy="82224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3665520" y="1604880"/>
            <a:ext cx="2273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358136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арцијални и тоничко-клонички нап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5"/>
          <p:cNvSpPr/>
          <p:nvPr/>
        </p:nvSpPr>
        <p:spPr>
          <a:xfrm>
            <a:off x="3662280" y="1604880"/>
            <a:ext cx="2040120" cy="82224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5783400" y="1604880"/>
            <a:ext cx="1369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Само абсан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7"/>
          <p:cNvSpPr/>
          <p:nvPr/>
        </p:nvSpPr>
        <p:spPr>
          <a:xfrm>
            <a:off x="5702400" y="1604880"/>
            <a:ext cx="1531800" cy="82224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90600" y="2610000"/>
            <a:ext cx="15256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V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9"/>
          <p:cNvSpPr/>
          <p:nvPr/>
        </p:nvSpPr>
        <p:spPr>
          <a:xfrm>
            <a:off x="309600" y="2427120"/>
            <a:ext cx="16873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2077920" y="2610000"/>
            <a:ext cx="15019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1"/>
          <p:cNvSpPr/>
          <p:nvPr/>
        </p:nvSpPr>
        <p:spPr>
          <a:xfrm>
            <a:off x="1996920" y="2427120"/>
            <a:ext cx="166536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3743280" y="2610000"/>
            <a:ext cx="18763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CBZ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3"/>
          <p:cNvSpPr/>
          <p:nvPr/>
        </p:nvSpPr>
        <p:spPr>
          <a:xfrm>
            <a:off x="3662280" y="2427120"/>
            <a:ext cx="20401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5783400" y="2610000"/>
            <a:ext cx="13698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E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5"/>
          <p:cNvSpPr/>
          <p:nvPr/>
        </p:nvSpPr>
        <p:spPr>
          <a:xfrm>
            <a:off x="5702400" y="2427120"/>
            <a:ext cx="153180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390600" y="3279600"/>
            <a:ext cx="1525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BD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7"/>
          <p:cNvSpPr/>
          <p:nvPr/>
        </p:nvSpPr>
        <p:spPr>
          <a:xfrm>
            <a:off x="309600" y="3097080"/>
            <a:ext cx="16873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2077920" y="3279600"/>
            <a:ext cx="15019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9"/>
          <p:cNvSpPr/>
          <p:nvPr/>
        </p:nvSpPr>
        <p:spPr>
          <a:xfrm>
            <a:off x="1996920" y="3097080"/>
            <a:ext cx="166536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3743280" y="3279600"/>
            <a:ext cx="18763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HT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1"/>
          <p:cNvSpPr/>
          <p:nvPr/>
        </p:nvSpPr>
        <p:spPr>
          <a:xfrm>
            <a:off x="3662280" y="3097080"/>
            <a:ext cx="20401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5783400" y="3097080"/>
            <a:ext cx="1369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3"/>
          <p:cNvSpPr/>
          <p:nvPr/>
        </p:nvSpPr>
        <p:spPr>
          <a:xfrm>
            <a:off x="5702400" y="3097080"/>
            <a:ext cx="153180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390600" y="3949560"/>
            <a:ext cx="1525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LTG^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5"/>
          <p:cNvSpPr/>
          <p:nvPr/>
        </p:nvSpPr>
        <p:spPr>
          <a:xfrm>
            <a:off x="309600" y="3767040"/>
            <a:ext cx="16873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6"/>
          <p:cNvSpPr/>
          <p:nvPr/>
        </p:nvSpPr>
        <p:spPr>
          <a:xfrm>
            <a:off x="2077920" y="3767040"/>
            <a:ext cx="15019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7"/>
          <p:cNvSpPr/>
          <p:nvPr/>
        </p:nvSpPr>
        <p:spPr>
          <a:xfrm>
            <a:off x="1996920" y="3767040"/>
            <a:ext cx="166536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3743280" y="3949560"/>
            <a:ext cx="18763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OXC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9"/>
          <p:cNvSpPr/>
          <p:nvPr/>
        </p:nvSpPr>
        <p:spPr>
          <a:xfrm>
            <a:off x="3662280" y="3767040"/>
            <a:ext cx="20401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8"/>
          <p:cNvSpPr/>
          <p:nvPr/>
        </p:nvSpPr>
        <p:spPr>
          <a:xfrm>
            <a:off x="5783400" y="3767040"/>
            <a:ext cx="1369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1"/>
          <p:cNvSpPr/>
          <p:nvPr/>
        </p:nvSpPr>
        <p:spPr>
          <a:xfrm>
            <a:off x="5702400" y="3767040"/>
            <a:ext cx="153180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390600" y="4619520"/>
            <a:ext cx="1525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TPM (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3"/>
          <p:cNvSpPr/>
          <p:nvPr/>
        </p:nvSpPr>
        <p:spPr>
          <a:xfrm>
            <a:off x="309600" y="4437000"/>
            <a:ext cx="16873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2077920" y="4437000"/>
            <a:ext cx="15019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5"/>
          <p:cNvSpPr/>
          <p:nvPr/>
        </p:nvSpPr>
        <p:spPr>
          <a:xfrm>
            <a:off x="1996920" y="4437000"/>
            <a:ext cx="166536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1"/>
          <p:cNvSpPr/>
          <p:nvPr/>
        </p:nvSpPr>
        <p:spPr>
          <a:xfrm>
            <a:off x="3743280" y="4619520"/>
            <a:ext cx="18763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VGB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7"/>
          <p:cNvSpPr/>
          <p:nvPr/>
        </p:nvSpPr>
        <p:spPr>
          <a:xfrm>
            <a:off x="3662280" y="4437000"/>
            <a:ext cx="20401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83400" y="4437000"/>
            <a:ext cx="1369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9"/>
          <p:cNvSpPr/>
          <p:nvPr/>
        </p:nvSpPr>
        <p:spPr>
          <a:xfrm>
            <a:off x="5702400" y="4437000"/>
            <a:ext cx="153180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3"/>
          <p:cNvSpPr/>
          <p:nvPr/>
        </p:nvSpPr>
        <p:spPr>
          <a:xfrm>
            <a:off x="390600" y="5106960"/>
            <a:ext cx="1525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1"/>
          <p:cNvSpPr/>
          <p:nvPr/>
        </p:nvSpPr>
        <p:spPr>
          <a:xfrm>
            <a:off x="309600" y="5106960"/>
            <a:ext cx="16873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4"/>
          <p:cNvSpPr/>
          <p:nvPr/>
        </p:nvSpPr>
        <p:spPr>
          <a:xfrm>
            <a:off x="2077920" y="5106960"/>
            <a:ext cx="15019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3"/>
          <p:cNvSpPr/>
          <p:nvPr/>
        </p:nvSpPr>
        <p:spPr>
          <a:xfrm>
            <a:off x="1996920" y="5106960"/>
            <a:ext cx="166536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5"/>
          <p:cNvSpPr/>
          <p:nvPr/>
        </p:nvSpPr>
        <p:spPr>
          <a:xfrm>
            <a:off x="3743280" y="5289480"/>
            <a:ext cx="18763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GBP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5"/>
          <p:cNvSpPr/>
          <p:nvPr/>
        </p:nvSpPr>
        <p:spPr>
          <a:xfrm>
            <a:off x="3662280" y="5106960"/>
            <a:ext cx="20401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6"/>
          <p:cNvSpPr/>
          <p:nvPr/>
        </p:nvSpPr>
        <p:spPr>
          <a:xfrm>
            <a:off x="5783400" y="5106960"/>
            <a:ext cx="1369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7"/>
          <p:cNvSpPr/>
          <p:nvPr/>
        </p:nvSpPr>
        <p:spPr>
          <a:xfrm>
            <a:off x="5702400" y="5106960"/>
            <a:ext cx="153180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7"/>
          <p:cNvSpPr/>
          <p:nvPr/>
        </p:nvSpPr>
        <p:spPr>
          <a:xfrm>
            <a:off x="390600" y="5776920"/>
            <a:ext cx="1525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9"/>
          <p:cNvSpPr/>
          <p:nvPr/>
        </p:nvSpPr>
        <p:spPr>
          <a:xfrm>
            <a:off x="309600" y="5776920"/>
            <a:ext cx="16873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8"/>
          <p:cNvSpPr/>
          <p:nvPr/>
        </p:nvSpPr>
        <p:spPr>
          <a:xfrm>
            <a:off x="2077920" y="5776920"/>
            <a:ext cx="15019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1"/>
          <p:cNvSpPr/>
          <p:nvPr/>
        </p:nvSpPr>
        <p:spPr>
          <a:xfrm>
            <a:off x="1996920" y="5776920"/>
            <a:ext cx="166536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9"/>
          <p:cNvSpPr/>
          <p:nvPr/>
        </p:nvSpPr>
        <p:spPr>
          <a:xfrm>
            <a:off x="3743280" y="5959440"/>
            <a:ext cx="18763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TGB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3"/>
          <p:cNvSpPr/>
          <p:nvPr/>
        </p:nvSpPr>
        <p:spPr>
          <a:xfrm>
            <a:off x="3662280" y="5776920"/>
            <a:ext cx="20401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5783400" y="5776920"/>
            <a:ext cx="1369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5"/>
          <p:cNvSpPr/>
          <p:nvPr/>
        </p:nvSpPr>
        <p:spPr>
          <a:xfrm>
            <a:off x="5702400" y="5776920"/>
            <a:ext cx="153180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8"/>
          <p:cNvSpPr/>
          <p:nvPr/>
        </p:nvSpPr>
        <p:spPr>
          <a:xfrm>
            <a:off x="304920" y="1600200"/>
            <a:ext cx="6933960" cy="4851360"/>
          </a:xfrm>
          <a:prstGeom prst="rect">
            <a:avLst/>
          </a:prstGeom>
          <a:noFill/>
          <a:ln w="111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0"/>
          <p:cNvSpPr/>
          <p:nvPr/>
        </p:nvSpPr>
        <p:spPr>
          <a:xfrm>
            <a:off x="7315200" y="2743200"/>
            <a:ext cx="1752480" cy="41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^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гу погоршати миоклоничне нападе и абсан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^^LTG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же погоршати тешку миоклоничну епилепс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#VGB je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ефикасан и против инфатилних спаз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Ширина спектра деј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42960" y="1643040"/>
          <a:ext cx="7500960" cy="4718160"/>
        </p:xfrm>
        <a:graphic>
          <a:graphicData uri="http://schemas.openxmlformats.org/drawingml/2006/table">
            <a:tbl>
              <a:tblPr/>
              <a:tblGrid>
                <a:gridCol w="3749760"/>
                <a:gridCol w="3751200"/>
              </a:tblGrid>
              <a:tr h="384120">
                <a:tc gridSpan="2"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ирина спектра појединих антиепилептичких леков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ипови напа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ов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ви типови напа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алпроати, бензодиазепини (клобазам, нитразепам, клоназепам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ви типови напада изузев миоклонички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амотриги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ви типови напада изузев апсансни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енобарбитон, примидон, топирамат, леветирацетам, зонисамид, фелбамат*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арцијални и секундарно генерализовани напа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рбамазепин, окскарбазепин, габапентин, фенитоин, тиагабин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арцијални и секундарно генерализовани напади,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еst-ov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синдро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габатрин*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псансни напа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тосук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мид, метсук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мид, ацетазоламид, султи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 gridSpan="2"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-због нежељених дејстава користе се само под посебним услови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838080" y="164304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T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пади реагују на све лекове осим на етосукцими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псанси и миоклонизми реагују само на неке лекове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валпроат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је лек првог избо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тали типови реагују сходно другим карактеристик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габатрин код кортикалних дисплаз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Westov s.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BZ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PHT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д тоничких напад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Валпроат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д фотосензитивности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окална или генерализована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збор лека на основу типа нап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ТИТРАЦИЈ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ВАЛПРОАТ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ДРУГИХ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АЕ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Бр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титра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VPA, ESM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PB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 OHC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G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по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титра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де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CBZ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 VGB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FBM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 TG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Врл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по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титра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дељ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месец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LTG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TP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124920"/>
            <a:ext cx="868680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ТОЛЕРАНЦИЈ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АПСТИНЕНЦИЈАЛН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СИМПТОМ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ТЕРАПИЈ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АНТИЕПИЛЕПТИЦ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Круп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апстиненцијал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имптом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PB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BZD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PRIM, VG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мер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апстиненцијал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имптом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GBP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TGB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F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апстиненцијал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импт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VPA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PHT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CBZ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ESM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TP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3"/>
          <p:cNvSpPr/>
          <p:nvPr/>
        </p:nvSpPr>
        <p:spPr>
          <a:xfrm>
            <a:off x="5214960" y="333360"/>
            <a:ext cx="3222720" cy="238140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Afflictis lentae, celeres gaudentibus hora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essante causa cessat effect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64296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Фактор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l-SI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утичу</a:t>
            </a:r>
            <a:r>
              <a:rPr b="0" lang="sl-SI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l-SI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успешност</a:t>
            </a:r>
            <a:r>
              <a:rPr b="0" lang="sl-SI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Дозир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АЕ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Додат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Токсич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Тератоге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Праће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ниво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еру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Интеракц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леков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Комф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Квалите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жив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ПОГОРШАЊ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ЕПИЛЕПСИЈ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АНТИЕПИЛЕПТИЦ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66"/>
          <p:cNvGrpSpPr/>
          <p:nvPr/>
        </p:nvGrpSpPr>
        <p:grpSpPr>
          <a:xfrm>
            <a:off x="235080" y="1905120"/>
            <a:ext cx="8759160" cy="4670280"/>
            <a:chOff x="235080" y="1905120"/>
            <a:chExt cx="8759160" cy="4670280"/>
          </a:xfrm>
        </p:grpSpPr>
        <p:sp>
          <p:nvSpPr>
            <p:cNvPr id="321" name="Rectangle 3"/>
            <p:cNvSpPr/>
            <p:nvPr/>
          </p:nvSpPr>
          <p:spPr>
            <a:xfrm>
              <a:off x="359640" y="1909800"/>
              <a:ext cx="103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A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3"/>
            <p:cNvSpPr/>
            <p:nvPr/>
          </p:nvSpPr>
          <p:spPr>
            <a:xfrm>
              <a:off x="243000" y="1909800"/>
              <a:ext cx="1272240" cy="5508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"/>
            <p:cNvSpPr/>
            <p:nvPr/>
          </p:nvSpPr>
          <p:spPr>
            <a:xfrm>
              <a:off x="1632240" y="1909800"/>
              <a:ext cx="3494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Тип епилепсије или напад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5"/>
            <p:cNvSpPr/>
            <p:nvPr/>
          </p:nvSpPr>
          <p:spPr>
            <a:xfrm>
              <a:off x="1515600" y="1909800"/>
              <a:ext cx="3728520" cy="5508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5"/>
            <p:cNvSpPr/>
            <p:nvPr/>
          </p:nvSpPr>
          <p:spPr>
            <a:xfrm>
              <a:off x="5361120" y="1909800"/>
              <a:ext cx="3508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Ефека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7"/>
            <p:cNvSpPr/>
            <p:nvPr/>
          </p:nvSpPr>
          <p:spPr>
            <a:xfrm>
              <a:off x="5244120" y="1909800"/>
              <a:ext cx="3741840" cy="5508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6"/>
            <p:cNvSpPr/>
            <p:nvPr/>
          </p:nvSpPr>
          <p:spPr>
            <a:xfrm>
              <a:off x="359640" y="2460600"/>
              <a:ext cx="1038960" cy="12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CB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9"/>
            <p:cNvSpPr/>
            <p:nvPr/>
          </p:nvSpPr>
          <p:spPr>
            <a:xfrm>
              <a:off x="243000" y="2460600"/>
              <a:ext cx="1272240" cy="1257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1632240" y="2460600"/>
              <a:ext cx="34948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Бенигна парцијал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псанси, ЈМ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1"/>
            <p:cNvSpPr/>
            <p:nvPr/>
          </p:nvSpPr>
          <p:spPr>
            <a:xfrm>
              <a:off x="1515600" y="2460600"/>
              <a:ext cx="3728520" cy="706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8"/>
            <p:cNvSpPr/>
            <p:nvPr/>
          </p:nvSpPr>
          <p:spPr>
            <a:xfrm>
              <a:off x="5361120" y="2460600"/>
              <a:ext cx="350820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ES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Пове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ћ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н број напад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3"/>
            <p:cNvSpPr/>
            <p:nvPr/>
          </p:nvSpPr>
          <p:spPr>
            <a:xfrm>
              <a:off x="5244120" y="2460600"/>
              <a:ext cx="3741840" cy="706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"/>
            <p:cNvSpPr/>
            <p:nvPr/>
          </p:nvSpPr>
          <p:spPr>
            <a:xfrm>
              <a:off x="1632240" y="3259080"/>
              <a:ext cx="3494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E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35"/>
            <p:cNvSpPr/>
            <p:nvPr/>
          </p:nvSpPr>
          <p:spPr>
            <a:xfrm>
              <a:off x="1515600" y="3166920"/>
              <a:ext cx="3728520" cy="5511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0"/>
            <p:cNvSpPr/>
            <p:nvPr/>
          </p:nvSpPr>
          <p:spPr>
            <a:xfrm>
              <a:off x="5361120" y="3259080"/>
              <a:ext cx="3508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Опште погоршањ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37"/>
            <p:cNvSpPr/>
            <p:nvPr/>
          </p:nvSpPr>
          <p:spPr>
            <a:xfrm>
              <a:off x="5244120" y="3166920"/>
              <a:ext cx="3741840" cy="5511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1"/>
            <p:cNvSpPr/>
            <p:nvPr/>
          </p:nvSpPr>
          <p:spPr>
            <a:xfrm>
              <a:off x="359640" y="3718080"/>
              <a:ext cx="10389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P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9"/>
            <p:cNvSpPr/>
            <p:nvPr/>
          </p:nvSpPr>
          <p:spPr>
            <a:xfrm>
              <a:off x="243000" y="3718080"/>
              <a:ext cx="1272240" cy="707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2"/>
            <p:cNvSpPr/>
            <p:nvPr/>
          </p:nvSpPr>
          <p:spPr>
            <a:xfrm>
              <a:off x="1632240" y="3718080"/>
              <a:ext cx="34948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псанси JA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1"/>
            <p:cNvSpPr/>
            <p:nvPr/>
          </p:nvSpPr>
          <p:spPr>
            <a:xfrm>
              <a:off x="1515600" y="3718080"/>
              <a:ext cx="3728520" cy="707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3"/>
            <p:cNvSpPr/>
            <p:nvPr/>
          </p:nvSpPr>
          <p:spPr>
            <a:xfrm>
              <a:off x="5361120" y="3718080"/>
              <a:ext cx="35082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Пове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ћ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н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број напада погоршањ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43"/>
            <p:cNvSpPr/>
            <p:nvPr/>
          </p:nvSpPr>
          <p:spPr>
            <a:xfrm>
              <a:off x="5244120" y="3718080"/>
              <a:ext cx="3741840" cy="707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4"/>
            <p:cNvSpPr/>
            <p:nvPr/>
          </p:nvSpPr>
          <p:spPr>
            <a:xfrm>
              <a:off x="359640" y="4473720"/>
              <a:ext cx="10389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45"/>
            <p:cNvSpPr/>
            <p:nvPr/>
          </p:nvSpPr>
          <p:spPr>
            <a:xfrm>
              <a:off x="243000" y="4425840"/>
              <a:ext cx="1272240" cy="708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5"/>
            <p:cNvSpPr/>
            <p:nvPr/>
          </p:nvSpPr>
          <p:spPr>
            <a:xfrm>
              <a:off x="1632240" y="4473720"/>
              <a:ext cx="34948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псанси и разни типови напада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47"/>
            <p:cNvSpPr/>
            <p:nvPr/>
          </p:nvSpPr>
          <p:spPr>
            <a:xfrm>
              <a:off x="1515600" y="4425840"/>
              <a:ext cx="3728520" cy="708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6"/>
            <p:cNvSpPr/>
            <p:nvPr/>
          </p:nvSpPr>
          <p:spPr>
            <a:xfrm>
              <a:off x="5361120" y="4473720"/>
              <a:ext cx="35082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Пове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ћ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н број напад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при великим дозам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49"/>
            <p:cNvSpPr/>
            <p:nvPr/>
          </p:nvSpPr>
          <p:spPr>
            <a:xfrm>
              <a:off x="5244120" y="4425840"/>
              <a:ext cx="3741840" cy="708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7"/>
            <p:cNvSpPr/>
            <p:nvPr/>
          </p:nvSpPr>
          <p:spPr>
            <a:xfrm>
              <a:off x="359640" y="5160960"/>
              <a:ext cx="103896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VG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GB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51"/>
            <p:cNvSpPr/>
            <p:nvPr/>
          </p:nvSpPr>
          <p:spPr>
            <a:xfrm>
              <a:off x="243000" y="5133960"/>
              <a:ext cx="1272240" cy="706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1632240" y="5160960"/>
              <a:ext cx="34948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псанс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Миоклониј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53"/>
            <p:cNvSpPr/>
            <p:nvPr/>
          </p:nvSpPr>
          <p:spPr>
            <a:xfrm>
              <a:off x="1515600" y="5133960"/>
              <a:ext cx="3728520" cy="706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9"/>
            <p:cNvSpPr/>
            <p:nvPr/>
          </p:nvSpPr>
          <p:spPr>
            <a:xfrm>
              <a:off x="5361120" y="5160960"/>
              <a:ext cx="350820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Пове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ћ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н број напад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Појачање миоклониј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55"/>
            <p:cNvSpPr/>
            <p:nvPr/>
          </p:nvSpPr>
          <p:spPr>
            <a:xfrm>
              <a:off x="5244120" y="5133960"/>
              <a:ext cx="3741840" cy="706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0"/>
            <p:cNvSpPr/>
            <p:nvPr/>
          </p:nvSpPr>
          <p:spPr>
            <a:xfrm>
              <a:off x="359640" y="5867280"/>
              <a:ext cx="10389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LT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57"/>
            <p:cNvSpPr/>
            <p:nvPr/>
          </p:nvSpPr>
          <p:spPr>
            <a:xfrm>
              <a:off x="243000" y="5840280"/>
              <a:ext cx="1272240" cy="708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1"/>
            <p:cNvSpPr/>
            <p:nvPr/>
          </p:nvSpPr>
          <p:spPr>
            <a:xfrm>
              <a:off x="1632240" y="5867280"/>
              <a:ext cx="349488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Тешка миоклонус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епилепсија одојчад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59"/>
            <p:cNvSpPr/>
            <p:nvPr/>
          </p:nvSpPr>
          <p:spPr>
            <a:xfrm>
              <a:off x="1515600" y="5840280"/>
              <a:ext cx="3728520" cy="708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2"/>
            <p:cNvSpPr/>
            <p:nvPr/>
          </p:nvSpPr>
          <p:spPr>
            <a:xfrm>
              <a:off x="5361120" y="5867280"/>
              <a:ext cx="350820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Погоршање миоклонус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1"/>
            <p:cNvSpPr/>
            <p:nvPr/>
          </p:nvSpPr>
          <p:spPr>
            <a:xfrm>
              <a:off x="5244120" y="5840280"/>
              <a:ext cx="3741840" cy="708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64"/>
            <p:cNvSpPr/>
            <p:nvPr/>
          </p:nvSpPr>
          <p:spPr>
            <a:xfrm>
              <a:off x="235080" y="1905120"/>
              <a:ext cx="8759160" cy="4647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ЛЕЧЕЊЕ ЕПИЛЕПСИЈЕ КАД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ИНДРОМСКА КЛАСИФИКАЦИЈА НЕЈАС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14"/>
              </a:spcBef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едности лечења са АЕЛ широког спектр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јвећа вероватноћа успеха кад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ип напада или синдрома није сасвим јасан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току еволуције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индрома могу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 могу јавити нови типови напада или синдроми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имен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E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широког спектра спречав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акву могућност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E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Л широког спектр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мају најмању могућност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зазивања или погоршања напа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214200" y="428760"/>
            <a:ext cx="8548920" cy="9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3581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az-Cyrl-AZ" sz="2000" spc="-1" strike="noStrike">
                <a:solidFill>
                  <a:srgbClr val="000000"/>
                </a:solidFill>
                <a:latin typeface="Arial"/>
              </a:rPr>
              <a:t>АЛГОРИТАМСКИ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z-Cyrl-AZ" sz="2000" spc="-1" strike="noStrike">
                <a:solidFill>
                  <a:srgbClr val="000000"/>
                </a:solidFill>
                <a:latin typeface="Arial"/>
              </a:rPr>
              <a:t>ПРИЛАЗ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z-Cyrl-AZ" sz="2000" spc="-1" strike="noStrike">
                <a:solidFill>
                  <a:srgbClr val="000000"/>
                </a:solidFill>
                <a:latin typeface="Arial"/>
              </a:rPr>
              <a:t>МОНОТЕРАПИЈИ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z-Cyrl-AZ" sz="2000" spc="-1" strike="noStrike">
                <a:solidFill>
                  <a:srgbClr val="000000"/>
                </a:solidFill>
                <a:latin typeface="Arial"/>
              </a:rPr>
              <a:t>ЕПИЛЕП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индикована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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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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ВАЛПРО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апсанс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фокалн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напад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СГ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Друг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тип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нап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Друг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избор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ЕСМ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/                                    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ЦБЗ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друг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АЕЛ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ЛТГ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ТП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ЛТ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2857320" y="428760"/>
            <a:ext cx="31921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600" spc="-1" strike="noStrike">
                <a:solidFill>
                  <a:srgbClr val="000000"/>
                </a:solidFill>
                <a:latin typeface="Calibri"/>
              </a:rPr>
              <a:t>Мигрена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l-SI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15%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ж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6%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мушкараца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600" spc="-1" strike="noStrike">
                <a:solidFill>
                  <a:srgbClr val="000000"/>
                </a:solidFill>
                <a:latin typeface="Calibri"/>
              </a:rPr>
              <a:t>Епилепсија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1%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опул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600" spc="-1" strike="noStrike">
                <a:solidFill>
                  <a:srgbClr val="000000"/>
                </a:solidFill>
                <a:latin typeface="Calibri"/>
              </a:rPr>
              <a:t>Удруженост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лучај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биоло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1760" y="845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Индикациј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примену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профилактичк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866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урент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а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ре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ов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љењ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ч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ко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индик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да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а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пе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мер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ље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е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а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ов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ипич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ре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ућ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плегич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лар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ре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ре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онгиран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р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ренс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арк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1760" y="845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Успех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профилактичк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мигрен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валпроа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866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јм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50%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болесни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мањ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честал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главобољ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50%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лич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спе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ости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мал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500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м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редњ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1500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м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оза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спе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однос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успе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оча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рв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месец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риме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рим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ле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1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2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нев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оз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9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Шт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удружује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мигрену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епилепсију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866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Појав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об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поремећај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ист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особ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лучај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удружено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коморбидитет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удружено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узроч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последич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удружено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једног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лек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об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поремећај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валпроа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Calibri"/>
              </a:rPr>
              <a:t>габапенти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(?),</a:t>
            </a:r>
            <a:r>
              <a:rPr b="0" lang="az-Cyrl-AZ" sz="2000" spc="-1" strike="noStrike">
                <a:solidFill>
                  <a:srgbClr val="000000"/>
                </a:solidFill>
                <a:latin typeface="Calibri"/>
              </a:rPr>
              <a:t>ламотриги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(?), </a:t>
            </a:r>
            <a:r>
              <a:rPr b="0" lang="az-Cyrl-AZ" sz="2000" spc="-1" strike="noStrike">
                <a:solidFill>
                  <a:srgbClr val="000000"/>
                </a:solidFill>
                <a:latin typeface="Calibri"/>
              </a:rPr>
              <a:t>топирамат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(?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кови и друге супстанце који могу узроковати нападе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тимикробни лекови, антивиротиц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та лактамски антибиоти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ефалоспор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ноло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циклови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ониаз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анциклови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естетици, аналгетиц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перид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мад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окални анестети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генси класе И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муномодулацијски лек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иклоспор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акролим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рферо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кови и друге супстанце који могу узроковати нападе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диографска контрастна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офил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сихотропни лек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тидепреси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типсихоти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итиј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лоупотреба хипнотичких средста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лкох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арбитур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нзодиазепи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ркотиц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мфет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ка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енциклид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тилфенид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лумазени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3"/>
          <p:cNvSpPr/>
          <p:nvPr/>
        </p:nvSpPr>
        <p:spPr>
          <a:xfrm>
            <a:off x="5214960" y="333360"/>
            <a:ext cx="3222720" cy="273852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Време споро тече болесницима, а расположенима брзо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Ако престане узрок, престаје и последиц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64296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АНТИДЕПРЕСИ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920" y="480960"/>
            <a:ext cx="709164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нтидепресиви нове генерације - захте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751824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Различите хемијске, фармаколошке и биохемијске особине од трициклик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Неутралност у односу на инхибицију моноаминооксидазе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 (MAO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Одсуство симпатомиметског ефект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Одсуство анти-холинергичких дејстав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Неутралност у односу на кардио-васкуларни систем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0920" y="480960"/>
            <a:ext cx="701532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нтидепресиви нове генерације - под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981080" y="1371600"/>
            <a:ext cx="697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елективни инхибитори поновног преузим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орадреналина и допам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NDR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орадренал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NARI (NRI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ина и норадренал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SNR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ина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арцијални агонист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5HT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 (SPAR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локатори појединих рецепт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орадренергички и специфични серотонергички антидепресиви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NaSSA)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локад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5-HT2A i 2C, 5-HT3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ергичких рецептора уз блокаду норадренал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alfa – 2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ецептор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локатори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5-HT2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ергичких рецептора уз инхибицију поновног преузимања серотон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SARI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атонергички агони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ебоксетин -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NA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Венлафакси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- SN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улоксети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- SN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илнаципра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- SN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упропион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- ND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Вилазодо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- SPA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иртазапи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- NaS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фазодо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- SA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разодо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- SA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гомелатин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agonist malatonin 1, 2 receptora i agonist 5HT</a:t>
            </a:r>
            <a:r>
              <a:rPr b="0" lang="sr-Latn-R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ианептин –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тумулатор преузиманја серотонин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+ Т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ПИЛЕПС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пилепс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мпт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уролошко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нифесту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д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пилептич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а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финиш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реме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ереотип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емећа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нашањ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мо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тор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нзитив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ру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инич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узрокова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жњење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тикал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ур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пилепс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је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а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нављај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нта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ЕПИДЕМИ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топ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нциденц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20 - 30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00,000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одрасл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тановни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годиш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топ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нциденц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рво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годи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живо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100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00,000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реваленц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: 0.5 - 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ife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реваленц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2-5%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Прогноз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епилепсиј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Пацијент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делим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груп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Напа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контролиш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терапиј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65%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нов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дијагностификова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контролиш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одма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давањ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прв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Пацијен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кој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напа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контролиса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терапиј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Фактор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утич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добр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прогноз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Фактор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утич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слабиј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прогноз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Узроц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епилепс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диопатс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криптоге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6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Васкулар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зроц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Конгенитал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абнормалнос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Трау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Тумор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4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егенератив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т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нфек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2.5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ILAE* </a:t>
            </a: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класификација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епилептичких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нап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3047760"/>
            <a:ext cx="6400800" cy="177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1.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арцијал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па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Генерализова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па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класификова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па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ternational Leaque Against Epileps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Парцијални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напа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 u="sng">
                <a:solidFill>
                  <a:srgbClr val="000000"/>
                </a:solidFill>
                <a:uFillTx/>
                <a:latin typeface="Calibri"/>
              </a:rPr>
              <a:t>Једностав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мотор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оматосензор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аутоном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имптоматологиј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 u="sng">
                <a:solidFill>
                  <a:srgbClr val="000000"/>
                </a:solidFill>
                <a:uFillTx/>
                <a:latin typeface="Calibri"/>
              </a:rPr>
              <a:t>Комплекс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Почињ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једностав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касн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дошл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поремећа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ве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поремећа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ве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одма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почет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 u="sng">
                <a:solidFill>
                  <a:srgbClr val="000000"/>
                </a:solidFill>
                <a:uFillTx/>
                <a:latin typeface="Calibri"/>
              </a:rPr>
              <a:t>Напад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z-Cyrl-AZ" sz="2400" spc="-1" strike="noStrike" u="sng">
                <a:solidFill>
                  <a:srgbClr val="000000"/>
                </a:solidFill>
                <a:uFillTx/>
                <a:latin typeface="Calibri"/>
              </a:rPr>
              <a:t>кој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z-Cyrl-AZ" sz="2400" spc="-1" strike="noStrike" u="sng">
                <a:solidFill>
                  <a:srgbClr val="000000"/>
                </a:solidFill>
                <a:uFillTx/>
                <a:latin typeface="Calibri"/>
              </a:rPr>
              <a:t>постај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z-Cyrl-AZ" sz="2400" spc="-1" strike="noStrike" u="sng">
                <a:solidFill>
                  <a:srgbClr val="000000"/>
                </a:solidFill>
                <a:uFillTx/>
                <a:latin typeface="Calibri"/>
              </a:rPr>
              <a:t>секундарно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z-Cyrl-AZ" sz="2400" spc="-1" strike="noStrike" u="sng">
                <a:solidFill>
                  <a:srgbClr val="000000"/>
                </a:solidFill>
                <a:uFillTx/>
                <a:latin typeface="Calibri"/>
              </a:rPr>
              <a:t>генерализова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7238880" y="228600"/>
            <a:ext cx="1295640" cy="609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20-08-12T08:28:59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